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69B9-9724-49DC-9CC6-5B7812AD8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93B9-15A2-4C63-909E-58333B94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C78C-854E-405A-AA10-D36A1512D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2136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856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057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22136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856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78FE-EA6D-430E-AE1D-E1EB8C27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22F8-0003-4A1E-B8F8-68D6327C7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4C13-8154-4CA2-9493-58C572BB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E873-F0E3-492E-80A4-1BB04F3A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7506-20CD-4A75-BDD0-2FA450B5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ED5CD-7C46-4F2B-A2A9-90828748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89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6A4B-2739-4A1B-A148-CCB68992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2832-7DB4-42F5-8C74-407629D7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3FE7-2B63-498E-A70D-D3D923A6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4F34-B684-4BE2-8362-83DCC9C2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75FF-05D4-46EC-AC3F-23C5279C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76D7-44DA-44C8-99C8-9E5554B1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3D19-B308-427B-A1FE-533CB6D06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2136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856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057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22136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856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5DCD-B383-4A81-ADAF-2ECFC5AFA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F1EA-B25E-4225-8663-365E8087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157C-9B6F-445A-9C45-4F6EFAD8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20CF-BDA7-4307-9456-9796A197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89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CB91-94B9-49A8-A652-B7E46924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0F70-DEE6-408A-A04E-44B90ECE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F663-407D-4AB3-B27B-AF3B6114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5F6C-0FE8-49AA-B0FA-75EA9B52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6C8E-6F8C-4B4E-AC0E-F36D3E8B46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4B43-1369-42BE-8E71-D18939CDD8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371600" y="549360"/>
            <a:ext cx="64008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 u="sng">
                <a:solidFill>
                  <a:srgbClr val="6767ff"/>
                </a:solidFill>
                <a:uFillTx/>
                <a:latin typeface="Arial"/>
              </a:rPr>
              <a:t>Freedom Writers – T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Copy these themes into your book and give examples of where they can be found in the film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TOLERANCE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If we learn to be tolerant we can see and accept other ways of liv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HEROISM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What makes a hero? It is ordinary people, not just those who are famo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RACISM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 We can’t be tolerant and understand others if we judge them on their race/ethnic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MOR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RESPONSIBILITY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We can always choose to do the right th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If we persist in life, we will succeed when we meet challen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 It is always possible to change who we are and the way we do thing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23:18:58Z</dcterms:created>
  <dc:creator>Ministry of Education</dc:creator>
  <dc:description/>
  <dc:language>en-US</dc:language>
  <cp:lastModifiedBy>Ministry of Education</cp:lastModifiedBy>
  <dcterms:modified xsi:type="dcterms:W3CDTF">2011-05-03T00:08:48Z</dcterms:modified>
  <cp:revision>2</cp:revision>
  <dc:subject/>
  <dc:title>Slide 1</dc:title>
</cp:coreProperties>
</file>